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8274-5C87-489B-820E-6E7970C7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7C04-C88E-4061-A022-0C879B16B4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D3D9-7784-4892-B689-43B21C29FC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8627-ABD8-4CEC-A1CC-6913472206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ommon way of stating that life is made of cells is to say that life is organ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are capable of interbreeding, populations are made up of sam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2058-37C6-4622-9A22-C6A2EBC4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A129-FB0F-43BA-B0EA-898AA1179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FE3C-E814-421C-81AE-C98C95B5AF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ECF7-D611-478E-839A-F6751877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E0A-013D-4D7E-9B92-5CE39140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789-DA40-4D8A-9855-EAA4C2F9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D05-6526-4192-8AB9-24879F60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2CE-0C0A-42F6-AD2B-BC4C8666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FFF-221F-4BAA-A25B-C4BFE23B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5FA-B9E2-4F38-9A01-1D3A80E3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8F0-DA2C-4E40-8D9F-CF8118B7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8F9-8603-4338-AF60-A31F4E79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471-672A-4AE5-A641-A82D4632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916-A819-451E-BA86-96242BB4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CEA-9EAB-422D-935F-96B4F5E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0385-2B14-45FD-AB11-38A5ED65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os.org/sln/sem/tick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v.ac.uk/~sd21/tisscult/call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reewebs.com/ltaing/cell%20fractionation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be0e3"/>
                </a:solidFill>
                <a:latin typeface="Rockwell Extra Bold"/>
              </a:rPr>
              <a:t>1-3 Studying Life (Biology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nning Electron Microscop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s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object with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of reflected 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ducing a 3-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666880"/>
            <a:ext cx="3962160" cy="2706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 rot="10800000">
            <a:off x="-1800" y="5338440"/>
            <a:ext cx="88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er tick, responsible for transmitting Lyme Disease, is about the size of a frec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3220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cation: X 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638360"/>
            <a:ext cx="57909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mission Electron Microscop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electrons pass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very thin slice of the speci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Coloured TEM of a section through striated muscle"/>
          <p:cNvPicPr/>
          <p:nvPr/>
        </p:nvPicPr>
        <p:blipFill>
          <a:blip r:embed="rId1"/>
          <a:stretch/>
        </p:blipFill>
        <p:spPr>
          <a:xfrm>
            <a:off x="990720" y="2895480"/>
            <a:ext cx="4495680" cy="333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15000" y="3466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ured TEM of 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striated mus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338120"/>
            <a:ext cx="647676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Cultures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le cells reproduce asexually in a lab (petri plate or test tube). Can grow many identical cells to test cell responses under controll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4038480"/>
            <a:ext cx="335268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fractionization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are burst open and the parts inside are separated  for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352680"/>
            <a:ext cx="3504960" cy="2895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Rockwell Extra Bold"/>
              </a:rPr>
              <a:t>What is considered a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Book Antiqua"/>
              </a:rPr>
              <a:t>living thing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are made of cell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reproduc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are based on a universal genetic cod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grow and develo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obtain and use materials and energ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respond to their environ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Maintain a stable internal environment (homeostasis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924"/>
              </a:spcBef>
              <a:buClr>
                <a:srgbClr val="80808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808080"/>
                </a:solidFill>
                <a:latin typeface="Book Antiqua"/>
              </a:rPr>
              <a:t>Change over tim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Rockwell Extra Bold"/>
              </a:rPr>
              <a:t>Studying Life in Various 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Book Antiqua"/>
              </a:rPr>
              <a:t>Branches of B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100000"/>
              </a:lnSpc>
              <a:spcBef>
                <a:spcPts val="950"/>
              </a:spcBef>
              <a:buClr>
                <a:srgbClr val="5f5f5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Book Antiqua"/>
              </a:rPr>
              <a:t>Divided into fields based on the type of life or  particular perspec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100000"/>
              </a:lnSpc>
              <a:spcBef>
                <a:spcPts val="950"/>
              </a:spcBef>
              <a:buClr>
                <a:srgbClr val="5f5f5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Book Antiqua"/>
              </a:rPr>
              <a:t>Examples of type of life: Zoologist study animals, Botanist study plants, Microbiologists study bacteria and other small organism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lnSpc>
                <a:spcPct val="100000"/>
              </a:lnSpc>
              <a:spcBef>
                <a:spcPts val="950"/>
              </a:spcBef>
              <a:buClr>
                <a:srgbClr val="5f5f5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Book Antiqua"/>
              </a:rPr>
              <a:t>Examples of perspective: Paleontologists study ancient life, Embryologists study newly forming life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s Organize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H,O,N,P,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2952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Tundra, desert, temperate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21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EFSphereP6"/>
          <p:cNvPicPr/>
          <p:nvPr/>
        </p:nvPicPr>
        <p:blipFill>
          <a:blip r:embed="rId1"/>
          <a:stretch/>
        </p:blipFill>
        <p:spPr>
          <a:xfrm>
            <a:off x="6705720" y="4952880"/>
            <a:ext cx="14954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be0e3"/>
              </a:solidFill>
              <a:latin typeface="Rockwell Extr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Book Antiqua"/>
            </a:endParaRPr>
          </a:p>
        </p:txBody>
      </p:sp>
      <p:pic>
        <p:nvPicPr>
          <p:cNvPr id="59" name="Picture 5" descr="Levels of Organization"/>
          <p:cNvPicPr/>
          <p:nvPr/>
        </p:nvPicPr>
        <p:blipFill>
          <a:blip r:embed="rId1"/>
          <a:stretch/>
        </p:blipFill>
        <p:spPr>
          <a:xfrm>
            <a:off x="3505320" y="1066680"/>
            <a:ext cx="1904760" cy="5457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493280" y="380880"/>
            <a:ext cx="6509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bbe0e3"/>
                </a:solidFill>
                <a:latin typeface="Rockwell Extra Bold"/>
                <a:ea typeface="Times New Roman"/>
              </a:rPr>
              <a:t>Studying Life at Various Leve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ioeth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bioethic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n you think of any ethical issues that science must fac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ic Syst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naly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p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re inform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a table because you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s (highest/lo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s image by foc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ght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dead or a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 –samples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canning-scans surface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nsmission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of 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thin s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09:24:55Z</dcterms:created>
  <dc:creator>Preferred Customer</dc:creator>
  <dc:description/>
  <dc:language>en-US</dc:language>
  <cp:lastModifiedBy>Preferred Customer</cp:lastModifiedBy>
  <dcterms:modified xsi:type="dcterms:W3CDTF">2010-09-23T09:05:35Z</dcterms:modified>
  <cp:revision>9</cp:revision>
  <dc:subject/>
  <dc:title>Studying Life</dc:title>
</cp:coreProperties>
</file>